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D0C7-77BD-4204-9642-92E0173F9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77A3-9E10-4D6D-BD73-F0B4DABD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6313-ADAF-4927-91FF-52D83862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B2B8-9985-423A-800B-C031925DE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023A-BF3F-4B29-88DD-461937E4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48F8-503D-4235-BFE9-F1DD0D35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1D89-E55A-43A0-A6BA-97365E9F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A985-1E80-41F1-A731-FED37314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9F6D-6428-4779-BA24-2946EEEC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B811-3F5B-414C-9C23-4561BB02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1A81-8545-4B7D-8B89-08EEF48A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97D9-C19E-4607-AFDB-24EA4600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EA89-156D-48E3-8C56-84BC42492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de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ing and Simulation of Short Range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D Triangulation-Based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er Scanning System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63640" y="3789360"/>
            <a:ext cx="3529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Theodor Borangi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00000"/>
                </a:solidFill>
                <a:latin typeface="Arial"/>
              </a:rPr>
              <a:t>borangiu@cimr.pub.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Anamaria Doga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00000"/>
                </a:solidFill>
                <a:latin typeface="Arial"/>
              </a:rPr>
              <a:t>dogar@cimr.pub.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Alexandru Dumitrach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600" spc="-1" strike="noStrike">
                <a:solidFill>
                  <a:srgbClr val="000000"/>
                </a:solidFill>
                <a:latin typeface="Arial"/>
              </a:rPr>
              <a:t>alex@cimr.pub.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2637000"/>
            <a:ext cx="4371840" cy="3962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70040" y="206280"/>
            <a:ext cx="1714320" cy="571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635280" y="187200"/>
            <a:ext cx="518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Centre for Research &amp; Training in Industrial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Robotics and Material Engin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Politehnica University of Buchar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Laser beam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Add a red spotligh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23880" y="206856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Laser beam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Bound the spotlight by a rectangular open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23880" y="206856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Laser beam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Make the opening smaller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23880" y="206856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Laser beam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... and smaller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523880" y="206856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Laser beam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The line laser beam is sufficiently th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3880" y="206856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Laser beam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Put back the workpie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23880" y="206856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Laser beam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Adjust the ligth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23880" y="206856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Laser probe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Add the camer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4920" y="206856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659640" y="220500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659640" y="4365720"/>
            <a:ext cx="1800000" cy="1800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148360" y="2637000"/>
            <a:ext cx="158436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Camer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19640" y="5300640"/>
            <a:ext cx="158436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Camer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rian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2D coordinates are extracted from the laser line in the imag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2995560"/>
            <a:ext cx="158436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Camer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26920" y="5256360"/>
            <a:ext cx="158436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Camer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82920" y="3357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82920" y="551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003640" y="2336760"/>
            <a:ext cx="3775320" cy="2028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003640" y="4495680"/>
            <a:ext cx="3775320" cy="2028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268360" y="249228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268360" y="465300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rian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Why two camera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2995560"/>
            <a:ext cx="158436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Camer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6920" y="5256360"/>
            <a:ext cx="158436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Camer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82920" y="3357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82920" y="551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003640" y="4495680"/>
            <a:ext cx="3775320" cy="2028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003640" y="2349360"/>
            <a:ext cx="3775320" cy="2028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266920" y="46530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2268360" y="249228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084720" y="2536920"/>
            <a:ext cx="28800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Main component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Laser p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-DOF Robot 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Rotary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illing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920" y="1341360"/>
            <a:ext cx="60292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rian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9640" y="2330280"/>
            <a:ext cx="8209080" cy="9925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Nonlinear transform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from 2D pixel coordinates (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o-RO" sz="2000" spc="-1" strike="noStrike" baseline="-25000">
                <a:solidFill>
                  <a:srgbClr val="000000"/>
                </a:solidFill>
                <a:latin typeface="Arial"/>
              </a:rPr>
              <a:t>x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o-RO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) to 3D reference frame (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o-RO" sz="2000" spc="-1" strike="noStrike" baseline="-25000">
                <a:solidFill>
                  <a:srgbClr val="000000"/>
                </a:solidFill>
                <a:latin typeface="Arial"/>
              </a:rPr>
              <a:t>X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o-RO" sz="20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o-RO" sz="20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4174920" cy="3079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003640" y="3429000"/>
            <a:ext cx="396108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21437" t="0" r="6443" b="0"/>
          <a:stretch/>
        </p:blipFill>
        <p:spPr>
          <a:xfrm>
            <a:off x="4932360" y="1593720"/>
            <a:ext cx="4032360" cy="4194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Putting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5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The robot arm moves the laser probe around the workpie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The table rotates the workpiece    to avoid out-of-range configurations for the robo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The laser measurements can        be transformed into the 3D      workpiece reference frame,            if the instantaneous locations        of the robot and table are know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User Interface: Static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433520" y="1600200"/>
            <a:ext cx="6275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User Interface: Static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33520" y="1600200"/>
            <a:ext cx="6275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User Interface: Static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433520" y="1600200"/>
            <a:ext cx="6275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User Interface: Static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433520" y="1600200"/>
            <a:ext cx="6275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User Interface: Static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33520" y="1600200"/>
            <a:ext cx="6275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User Interface: Static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33520" y="1600200"/>
            <a:ext cx="6275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User Interface: Static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433520" y="1600200"/>
            <a:ext cx="6275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User Interface: Static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433520" y="1600200"/>
            <a:ext cx="6275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Simul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6400" y="1600200"/>
            <a:ext cx="7221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Simulated it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Robot and table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Laser prob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Simulation mo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tatic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User Interface: Static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433520" y="1600200"/>
            <a:ext cx="6275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User Interface: Static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33520" y="1600200"/>
            <a:ext cx="6275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User Interface: 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89120" y="1600200"/>
            <a:ext cx="396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User Interface: 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235240" y="1600200"/>
            <a:ext cx="4673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User Interface: 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158920" y="1600200"/>
            <a:ext cx="4826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User Interface: Set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692360" y="1989000"/>
            <a:ext cx="2352600" cy="1771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635280" y="4076640"/>
            <a:ext cx="432432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042240" cy="45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WindowsMediaPlayer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WindowsMediaPlayer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Rotary Table Plan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(7-DOF Inverse Kinemat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Arial"/>
              </a:rPr>
              <a:t>The laser probe should follow a given trajectory around the workpie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Arial"/>
              </a:rPr>
              <a:t>The table rotates automatically to help the robot arm position the laser probe from any possible dire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Arial"/>
              </a:rPr>
              <a:t>The planner attempts to avoid robotic arm singularities and configurations close to joint limi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alibration of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The kinematic model of the system may not be accurate due to mechanical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Two calibration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Robot – Laser Probe 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(fixed 4x4 transformation matri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Robot – Table 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(variable 4x4 transformation matrix – depends on rotary table angular pos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Robot and table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7-DOF Kinematic Ch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Denavit-Hartenberg con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3D Display model for every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987640" y="3398760"/>
            <a:ext cx="6012000" cy="3125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3833640"/>
            <a:ext cx="3203640" cy="20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Developing and testing scanning strateg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Arial"/>
              </a:rPr>
              <a:t>Predefined paths, based on workpiece clas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Arial"/>
              </a:rPr>
              <a:t>(molds, freeform art objects, small-scale model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Arial"/>
              </a:rPr>
              <a:t>Adaptive scanning paths, attempting to discover concave regions in the workpie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Arial"/>
              </a:rPr>
              <a:t>Scanning paths optimized for quick scanning or for high-precision scann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60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321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Questions? Remarks? Criticis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Laser probe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How the laser probe work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A planar laser beam casts a line onto the workpie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Two cameras detect the laser line and apply triangulation to map the line onto the 3D spa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Simulation environment: POV-Ray (Raytracing Softwar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Laser Beam Simulation: Spotlight + Narrow Open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3880" y="206856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Laser beam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Table with Workpie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23880" y="206856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Laser beam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Adjust the ligh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Laser beam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Remove the workpie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23880" y="206856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Laser beam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Add a red spotligh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23880" y="206856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7:57:58Z</dcterms:created>
  <dc:creator>Alex</dc:creator>
  <dc:description/>
  <dc:language>en-US</dc:language>
  <cp:lastModifiedBy>Alex</cp:lastModifiedBy>
  <dcterms:modified xsi:type="dcterms:W3CDTF">2008-05-15T22:09:43Z</dcterms:modified>
  <cp:revision>44</cp:revision>
  <dc:subject/>
  <dc:title>Modeling and Simulation of Short Range  3D Triangulation-Based Laser Scanning System </dc:title>
</cp:coreProperties>
</file>